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5C9F-3BD6-46D4-9756-841AFCF7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4618-5979-4F95-9C82-AB934306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40BB-607E-45E4-BFE5-4AFBAF8E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57F-C25C-4393-B0D1-302AF4AA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8677-30F4-43FB-AFF6-7D57342A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B7FA-3615-40B6-8FCA-827FBA8E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9FB9-161C-4A61-900D-5C5E6B02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D7B8-B799-45C0-AAC0-23F10F72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8056-62B3-4778-8305-2BC0FB16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657F-265E-4DA8-B6EC-9F0C5CCF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E592-742C-4FB2-A363-989E410D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A75E-D34E-4923-B608-6EE3DB49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E253-B999-4CAC-B37E-21BE5581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8C67-3F61-4739-BF3E-8D9F5E8A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E075-C4CC-4072-B3E0-90D0FF5D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C4E1-E7E4-4B2E-BF31-0996432A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29D2-3E90-471B-884A-F1DC4A00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7DB3-B541-4A24-81DB-10FC0E44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4CC6-8A97-459B-B495-DED37BA3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6797-B704-4BC6-90B5-F548562A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2212-B476-4C6E-8D3C-AE6532A3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BBCF-0015-4852-81F6-D8C43826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3DC3-9AED-4742-97E6-53216E7C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02C8-6F4D-427F-B2A6-CBBC291A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162E-CFDD-435F-AC95-EC123E7E0994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>
                    <a:gd name="textAreaLeft" fmla="*/ 0 w 1412640"/>
                    <a:gd name="textAreaRight" fmla="*/ 1413000 w 141264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05F5-3766-4FB4-A385-9C060B598C37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he Triangle Sum Theorem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828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he Triangle Sum Theorem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m of the measures of the angles of a triangle are equal to 180 deg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1600200" y="37339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5"/>
          <p:cNvSpPr/>
          <p:nvPr/>
        </p:nvSpPr>
        <p:spPr>
          <a:xfrm flipV="1">
            <a:off x="2362320" y="3733560"/>
            <a:ext cx="1143000" cy="1904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2362320" y="5638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3505320" y="3733920"/>
            <a:ext cx="1143000" cy="1904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27432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2767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37339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2666880" y="5105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40384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5867280" y="36576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5867280" y="3352680"/>
            <a:ext cx="304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5 = &lt; 3 and &lt; 4= &lt; 1 because alternate interior angles are congruent. Since &lt;1+ &lt; 2+ &lt; 3=180 degrees then the sum of the interior angles is 1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9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2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Definition of Remote Interior Angl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ior angle of a triangle that is not adjacent to a given exterior ang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2286000" y="57913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6"/>
          <p:cNvSpPr/>
          <p:nvPr/>
        </p:nvSpPr>
        <p:spPr>
          <a:xfrm flipH="1" flipV="1">
            <a:off x="3505320" y="4038120"/>
            <a:ext cx="182880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7"/>
          <p:cNvSpPr/>
          <p:nvPr/>
        </p:nvSpPr>
        <p:spPr>
          <a:xfrm flipV="1">
            <a:off x="2362320" y="4038120"/>
            <a:ext cx="114300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274320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335268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4343400" y="5257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53341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6629400" y="350532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les 1 and 2 are remote Interior angles of angle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500"/>
                            </p:stCondLst>
                            <p:childTnLst>
                              <p:par>
                                <p:cTn id="90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8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Exterior Angle Theorem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terior Angle equals the sum of the two remote interior angles. (remote interior angles don’t touch the exterior ang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2057400" y="4038480"/>
            <a:ext cx="1981080" cy="13716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4038480" y="5410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"/>
          <p:cNvSpPr/>
          <p:nvPr/>
        </p:nvSpPr>
        <p:spPr>
          <a:xfrm flipH="1">
            <a:off x="1294920" y="5410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342900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0"/>
          <p:cNvSpPr/>
          <p:nvPr/>
        </p:nvSpPr>
        <p:spPr>
          <a:xfrm flipH="1">
            <a:off x="30481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12193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1828800" y="5105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289548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2438280" y="4876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335268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11480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5257800" y="38098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4 equals the sum of &lt;1 +&lt;2 . 50+70= 120 so &lt;4= 1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90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9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rcRect l="35969" t="42594" r="29144" b="20370"/>
          <a:stretch/>
        </p:blipFill>
        <p:spPr>
          <a:xfrm>
            <a:off x="2590920" y="2057400"/>
            <a:ext cx="4952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rcRect l="44019" t="42594" r="6334" b="33333"/>
          <a:stretch/>
        </p:blipFill>
        <p:spPr>
          <a:xfrm>
            <a:off x="1905120" y="2286000"/>
            <a:ext cx="60721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rcRect l="44019" t="38891" r="6334" b="18521"/>
          <a:stretch/>
        </p:blipFill>
        <p:spPr>
          <a:xfrm>
            <a:off x="1523880" y="2286000"/>
            <a:ext cx="6129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rcRect l="60123" t="51854" r="15727" b="27781"/>
          <a:stretch/>
        </p:blipFill>
        <p:spPr>
          <a:xfrm>
            <a:off x="914400" y="2057400"/>
            <a:ext cx="7358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189(15-27) a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copy the pictures!!!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9T14:18:06Z</dcterms:created>
  <dc:creator>elliotsh</dc:creator>
  <dc:description/>
  <dc:language>en-US</dc:language>
  <cp:lastModifiedBy>BeasoA</cp:lastModifiedBy>
  <dcterms:modified xsi:type="dcterms:W3CDTF">2010-10-25T17:59:53Z</dcterms:modified>
  <cp:revision>20</cp:revision>
  <dc:subject/>
  <dc:title>Chapter 3.5 The Triangle Sum Theorem </dc:title>
</cp:coreProperties>
</file>